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972-A350-49E6-9E9A-2E1C7DD8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7DB-C68D-4675-8E54-570AE67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0CE-25CC-408C-A01B-C5F4B7E9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2D7-CF50-40C8-A1BF-EE677963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902-2E0B-488B-B7E4-0B1E23E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266-AEEE-44EA-9610-DA4A552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532-A7DC-4622-AA0D-1EFEC12B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447-F464-47D9-AFFF-A23B0B9A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076-86FD-4B1F-9BEA-B9E25B1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94B-7131-43A1-82CB-B59AF6B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AE7-37D9-4D06-8228-98001E8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1D0-AF9C-4CF5-BFC0-9C9D9F8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6BBF-E3EE-49DD-A886-E02C18987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vid Reyn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21932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eek  Cit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http://t0.gstatic.com/images?q=tbn:ANd9GcRdCKjWof9W5zWJIFbdJuEauajYTgx4QxfV9K08TNi2SuH6-xQ5lA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514600" y="1523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t0.gstatic.com/images?q=tbn:ANd9GcTnqM7K8CWcxYcUyB6fNpJpz0IRFwe37EOB4a_VyxNnXaqNcovZUw"/>
          <p:cNvPicPr/>
          <p:nvPr/>
        </p:nvPicPr>
        <p:blipFill>
          <a:blip r:embed="rId1"/>
          <a:stretch/>
        </p:blipFill>
        <p:spPr>
          <a:xfrm>
            <a:off x="3276720" y="342900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 where people vote to make desig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ts3.mm.bing.net/images/thumbnail.aspx?q=1632893346090&amp;id=5d7b05a9bb3133a8b87e6899090f5bb8&amp;url=http%3a%2f%2fwww.thelibertyvoice.com%2fwp-content%2fuploads%2f2010%2f06%2f633611418566621433-Democrac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828800" y="1600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t2.gstatic.com/images?q=tbn:ANd9GcRGCgbi2yBNTrMDDvkeOMN7csQp5hjlb59dNkraQTvW9u33vPra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362320" y="1295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st 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http://t3.gstatic.com/images?q=tbn:ANd9GcSTz9CAC1C1NfZBfvsoyGl0SAdqW4qG4Tme4bX0S9DpjDSJDmVAV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s1.mm.bing.net/images/thumbnail.aspx?q=1606968543236&amp;id=37156208650964fb6674b2352413ce85&amp;url=http%3a%2f%2fupload.wikimedia.org%2fwikipedia%2fcommons%2f3%2f37%2fAcropolis_of_Athens_01361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http://ts4.mm.bing.net/images/thumbnail.aspx?q=1581856075387&amp;id=2ebc77a42262dd046b5dc85e22490d6c&amp;url=http%3a%2f%2fwww.mccullagh.org%2fdb9%2f1ds-12%2froman-agora.jpg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s1.mm.bing.net/images/thumbnail.aspx?q=1626340924836&amp;id=352da4d525efe49eadfeb303d7cb6348&amp;url=http%3a%2f%2fwww.burdosclassroom.org%2fworldhistorywiki%2fimages%2fc%2fc8%2fPicture2.jpg"/>
          <p:cNvPicPr/>
          <p:nvPr/>
        </p:nvPicPr>
        <p:blipFill>
          <a:blip r:embed="rId1"/>
          <a:srcRect l="0" t="0" r="0" b="1964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TIZ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ts2.mm.bing.net/images/thumbnail.aspx?q=1618245849457&amp;id=8ec1818af6f5a3e5b3220dbde9d6a50f&amp;url=http%3a%2f%2fgreece.mrdonn.org%2fathens1.gif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1814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s1.mm.bing.net/images/thumbnail.aspx?q=1624370196236&amp;id=9a48191c7fd926a00f8e0d8c6b6daa54&amp;url=http%3a%2f%2fwww.nps.gov%2frowi%2fhistoryculture%2fimages%2froger-williams-Welcome_Colony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the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t2.gstatic.com/images?q=tbn:ANd9GcTDJC3MaE0HCikerrUCSy3Zc7zJYm5j_C8YN1N2sCTFmlpMYVAqIQ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90920" y="12952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 a court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http://t3.gstatic.com/images?q=tbn:ANd9GcQiguxFsS_keO4HpFe0EVD7yk4UbRFvIHFoZbUiezNflMd_2cXyVQ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295280" y="1371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ttp://t3.gstatic.com/images?q=tbn:ANd9GcSf6vAnFKjvbXNAtQtv8-MhSWNDXZX56RLuj2c_4v2dv-ALp-bV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20:26:18Z</dcterms:modified>
  <cp:revision>99</cp:revision>
  <dc:subject/>
  <dc:title>Ancient Greece</dc:title>
</cp:coreProperties>
</file>